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20E9-F418-4F6C-A858-BD44B31B4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4913-DE69-474F-88F0-8593EA5F5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CAF0-2260-490B-8886-31EA847C1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28E4-04D8-4F72-9A0A-87E38C4F9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3B0F-8B13-4527-BE30-B35E2783E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CC8B-A53C-4004-B209-8D4DC8ADE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24F7-752F-49F8-9E74-C580FBA83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DEA9-E932-4389-A608-116DCBF2A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01D2-7238-449A-8739-F3B7D70A3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AA98-EEB2-410E-A6C0-51FFF02D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9BE6-A249-4D81-8D2D-7015D37A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E8A4-D9AE-41E3-A8A6-7A4A5207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F7B5C-9D59-4C9F-9979-8B6EB43EEE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17720" y="1600200"/>
            <a:ext cx="2916000" cy="2185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208480" y="1600200"/>
            <a:ext cx="2916360" cy="2185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017720" y="3938760"/>
            <a:ext cx="2917800" cy="2187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208480" y="3938760"/>
            <a:ext cx="291780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2916360" cy="2185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796000" y="333360"/>
            <a:ext cx="2916360" cy="2185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11280" y="4149720"/>
            <a:ext cx="2917800" cy="2187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5796000" y="4508640"/>
            <a:ext cx="2917800" cy="2187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2987640" y="2276640"/>
            <a:ext cx="291636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1T09:50:53Z</dcterms:created>
  <dc:creator>01690112</dc:creator>
  <dc:description/>
  <dc:language>en-US</dc:language>
  <cp:lastModifiedBy>01690112</cp:lastModifiedBy>
  <dcterms:modified xsi:type="dcterms:W3CDTF">2009-07-21T09:53:41Z</dcterms:modified>
  <cp:revision>2</cp:revision>
  <dc:subject/>
  <dc:title>Slide 1</dc:title>
</cp:coreProperties>
</file>